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A54E-6908-48AB-82D0-82ABA874C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3EB2-76FA-4325-86FB-F5982461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061734-602B-4832-99D0-6695C90D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64E10F-E1C7-468B-AFCE-846410E1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8DC8CC-0881-4B4E-9B4E-F9E65D53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5901A-4638-4D07-843C-D176D5AF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89B1D3-4D17-4D38-B3AE-6FC8E064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AD7FF6-8B9C-41D9-A97C-5EC6F3E9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AB4832-9330-4B6D-9FE7-D0F115D6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512CD6-2068-413B-9C18-47AB5D52B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D3DBFD-17B5-4CCE-8F85-361DD5F47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2DB5AF-DB69-4025-A9B5-D32F9E8EF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D66F-5DAF-4764-BABD-154AB736D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124722-41DD-434E-86A5-CA940523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B67CD5-0E2C-492F-B7E3-B53A7903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769F58-3DA6-49B2-BCAF-C5BEEADA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34DE4E-5C49-4651-AE1B-34557B91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19DDC3-ABD7-4915-AB30-A4F9CB6B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C5DF5B-24F4-47B0-B7C6-57967889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7B2FD3-43CA-4E76-A3F6-F33D1EF9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67153B-D3A5-434D-88C1-325B9822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303115-F1BF-4DBA-B10B-6F134A94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C1C098-A567-406D-9E03-1AEACC8E4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86BD-07B4-4F22-B466-058D0CAEC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780016-EEAA-4CC7-9F74-DFAAFAE59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C9AFB5-3664-4C52-8248-84DDD6DCE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7DCF3-15F8-4E6D-8A36-C9586D76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78371E-019B-4047-B194-DCCA659A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1F352D-15E8-4936-BEF5-64FC2DD5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16D39F-A972-4C63-8F96-6AEE949C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A05F1-6FC4-4C71-8511-CDAAAC32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3EB5BA-56C1-43F2-82F3-E7D12EF0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73E6E-B3AA-48F3-B62C-C8219839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E0A56-FA01-4AF6-8EAB-4A0DA56D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FDBB-28DA-470A-AA15-587738472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8C26C-305F-48E7-918E-7CAE12EE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633329-EAEA-4FAD-8B6C-A01C1186B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B7B0E-C35F-4F08-B94C-E6E6F3B62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CF0CA2-88E4-454B-8115-C5958FDD8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9BD1D7-15B1-448A-982C-414AF857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AD03F4-74F8-415D-829E-FC381B78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5C1275-9203-49C0-8ECA-1B8316F5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925AFA-20A6-496C-81A7-EFAB6E1D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CD5280-FA76-47B0-977B-8C2AB3EA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29C8F3-AFFF-4C42-9474-5FFD6987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CC89-03CF-4875-A517-C446B98A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1F0F22-D597-4142-8CBA-2957FE44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245D7B-908B-4AEA-80AE-B752277F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33A3B5-E411-4789-A7D4-CA1A27B5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EB18C2-525C-4033-9D56-DF600CA9B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C93289-50E5-4BA0-B56E-7BA90FFF2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5518-C422-4273-A75F-C6880D85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1202-43F0-43FA-BA6E-BEA2E855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D589-9C1C-46B1-BFF4-DFDBFDEB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BC2B-1E30-4D88-96C4-AED285BF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ADB9-137F-4B7D-96A6-DCD6E3CA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81AF-427E-4A13-88BF-0BBFC429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E874-88FB-4961-825E-2135A86A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E284-6F55-4256-BFA4-75BCA691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CB5F-44E5-40F5-8BF8-CE737494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62CA-0A29-4D16-8016-BF4178583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DC56-613C-4D10-B6BA-E119A5E7A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F7E13-4F11-42B2-B6C2-E606F7591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B3B22-2B52-45C1-A135-C6DA75E8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84F8A-6F8A-41D5-9130-525331ED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6D6C2-435D-4FD6-847E-8F53700A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D538C-EA5A-439F-A2CB-8D2D6D1C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20B7-1D69-45CE-AC59-661DCB30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EA86E-C638-4B3D-81EC-063FF2CF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668A6-6E06-4472-961A-D8BD8FCE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AC818-7DF2-44D1-9522-03CB8DD8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0180F-6FFF-4AF6-9B7D-17669B66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0E139-571C-4FE7-875F-22B82F37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7119B-69E1-4186-8FC8-7E4E4C20A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DD061-15C1-4EA7-9FDC-FB170E3AD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C6872-0A2B-4F67-B842-8AA6845CE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313AE-4AF6-499A-8881-9F18DE2D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71077-0213-49B5-B83C-D21743CB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D916-34F7-407F-911E-0CEAD48F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6B392-926B-42AD-A549-EB3C5ADE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CD83E-884A-4743-B463-45980E0C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535AD-E386-4ED3-AD91-E7CCCD86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D96BE-D662-4FB2-8B26-A4B3B9F4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57904-23FD-4F79-8E72-0F261D24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90F29-5A17-44D7-A0F3-601036C5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8ECF6-4F50-4104-B515-437001D1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7F82E-AE18-4AFE-913B-356A2A97F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FE34A-F7D7-452D-A20D-5ACE1A9D3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8F3C4-834B-4B6E-B731-B6160A6E1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E03E-2FEA-44F1-94F8-0C203CC7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94579-8F3D-418C-9F80-ABA7D02E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60AD9-03C6-4D2C-B295-A9B76308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37A81-10F5-4C38-BC26-E1F21DAA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584CB-B88D-43E0-9E4C-5CD1A333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411FB-F0BA-42F0-8D1C-1CE05A49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4E9F5-B788-4AB0-B61C-88B2D5CA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D7064-AB72-4DB4-BADA-7DEF2500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8168F-EECC-4928-8B4F-BF040F73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E3673-E8F4-49C1-989A-4167AB7D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63A3F-DFBD-47D4-B639-4D5FE7518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9E7F-D4DF-49D6-B075-B91BBCE3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DB266-6F7C-408A-B148-609A746C7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54CD3-994B-4751-B37E-33B42AF28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4A665-D04A-491F-87AC-E4E81189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57713-9737-4687-9335-D6150A8B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F1113-FFB9-4BA3-8F67-5B8FD698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FE4CD-1122-4B38-9891-70292AD9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5A021-8AD2-4292-A0A8-DEC41FC1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87461-DECE-43FD-A5E6-B47FCAF3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2E308-5017-447B-9E36-1E187303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F910E-6EAB-4969-A6AB-56490661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9A52-4D4C-4CB3-91DE-00F8256B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D843B-C878-4445-B8C2-2CC791E3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26D33-B801-4DE7-A24B-265BF8435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30D24-3C9F-4877-BA1F-A13E842C8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F3BE2-9894-4EC8-9FC7-42BF741E0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61110-8292-40CB-87D0-7D9435FA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18347-78CC-4AB6-832A-F8C66462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D84DE-6D1E-4201-8E5A-DFE891C6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6F8AC-0F9C-44B6-A4D5-C33A4C93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47FD2-4358-4BDA-BBA6-40EB6E70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ECA5F-B08A-4D95-B81F-3CED5E25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E3AD-B78A-4C3B-8F17-63F036AC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581CA-0CFD-49AF-A020-105F9943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C0659-A4AE-49FF-8E9E-4A0752D6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05820-6EC8-430D-9071-FD53F869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A369F-3227-4BD9-925E-9881DE063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DE664-8948-4505-A528-032880256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ED723-ED2B-4FCC-A9CF-AB852424C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6B033-B154-41D2-9CE5-B77F2504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EE0E4-7F5E-4AD2-B435-4FCE44FA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7087E-2316-4746-B98B-82BC407F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87BAC-741F-4F0C-A154-03A5819F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D1B2-ECFF-4647-8D0E-47109F1C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95B95-F458-4F93-BD7F-F8728F2C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E1864-FAE3-47AB-83B6-A0621F82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FCF16-8BB1-4ABC-92FB-3AD105CE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A3B5F-8FF2-4294-A759-58C70DD6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66413-8574-44A1-986C-BDBE49BE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305FB-1EC7-462E-A7DF-607FC02C8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D7221-325C-4999-BC35-FE92259D2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C2BB7C-C078-4F46-A671-F7A0CCA17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3AE433-4990-4A7A-B4FF-4B647F21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8748BC-3AFB-450D-A6E8-1226FF1A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E304-75C4-46B0-80C0-EFB37CCE37E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8E14-9AC2-494A-8A63-E100AD7A788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FE95-1866-424C-A3FA-20DACE6DA68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D7B4-FB4D-492F-B998-12C3138691C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69BF-8C4F-4809-89FE-FCAF10D6FE5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DBC2-B767-45F8-B558-7F3F77DFAE9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3D0D-5110-43C1-A6D0-FB8B8B2E758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481C-FCD1-43EE-9937-C8EB5A7C1AD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D182-448E-4263-8FF9-06A2B30D202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6358-3761-44A9-81A3-3A97377B003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1DC62-700A-43B6-A2B0-B06837AD4EE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16C5-D36B-44F4-8049-5E96D6A6C9B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096 Láskavý náš Tešite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áskavý náš Tešit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môž zrieť nám spásy ci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ám nás stále k nemu veď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víťazstvu, nad ktoré ni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Úskaliami mnohých bied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m vždy úspešne daj spieť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K trónu slávy Božej ná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č viesť stále, v každý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áskavý Duch Svätý ná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ielo svoje konaj v ná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ru úzkostí zbav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dej strácať nedaj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ôľ keď tiesni našu hruď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útechou nám stálou buď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K trónu slávy Božej ná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č viesť stále, v každý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áskavý Dar, z neba Hl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ážiť nás uč krátky č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ým len žiari jasný d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iesť daj spásy pocho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Úspech práci našej pr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cieľu viery dospieť daj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K trónu slávy Božej ná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č viesť stále, v každý čas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1-30T18:01:59Z</dcterms:modified>
  <cp:revision>21</cp:revision>
  <dc:subject/>
  <dc:title>Je veľký náš Pán, on slávy je Kráľ Nech do všetkých strán  spev vrúcnych znie chvál.</dc:title>
</cp:coreProperties>
</file>